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20818"/>
        <c:axId val="10929446"/>
      </c:barChart>
      <c:catAx>
        <c:axId val="358208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29446"/>
        <c:crosses val="autoZero"/>
        <c:auto val="1"/>
        <c:lblAlgn val="ctr"/>
        <c:lblOffset val="100"/>
        <c:noMultiLvlLbl val="0"/>
      </c:catAx>
      <c:valAx>
        <c:axId val="10929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208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6C9-BB79-49CF-B8BE-5CEBE623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66F-6670-446B-AFB2-FC3DD67C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41E-29C2-41FF-898D-D06C9237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3B8-F002-41FD-9952-33FBE484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A7F5-A26D-4D84-837E-39154069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FB8-70D4-4658-A9BD-4A674ABC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111-BCAC-499F-8528-7AE22F95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A74-EC87-4227-BA04-118DE6F6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53F-EBD6-4464-8339-C27A5D8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0F6-F103-428F-B912-BB43647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499-0424-4ACD-9899-DA4CFD5B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D71-CDC2-4D83-8D89-49D5BEDF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5E148-5484-4B87-AEAD-C6E01E2541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