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31482"/>
        <c:axId val="91940930"/>
      </c:barChart>
      <c:catAx>
        <c:axId val="40731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40930"/>
        <c:crosses val="autoZero"/>
        <c:auto val="1"/>
        <c:lblAlgn val="ctr"/>
        <c:lblOffset val="100"/>
        <c:noMultiLvlLbl val="0"/>
      </c:catAx>
      <c:valAx>
        <c:axId val="91940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31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B66-0DC3-49D4-9B44-3A890942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E26-20EE-4B68-BC44-B741CB59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553-BDE5-4EB4-81B4-561147BE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E9F-4015-486C-BB71-8DE3E7E6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B0B-9841-43AA-9D35-79297AE1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00B-F455-41B3-9359-C0236BF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979-E01C-4DED-B470-B3F4EDC5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294-58A0-4140-B964-2238012F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43A-E64E-43F9-9031-74BD2A30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2DC-6107-4E2E-869D-2560F06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555-64EE-457C-964C-AD05A1FB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59F-CDD3-442A-9BAE-0E49F33C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73042-D02D-4D95-AE9B-BFCD7CA988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