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3057"/>
        <c:axId val="41448875"/>
      </c:barChart>
      <c:catAx>
        <c:axId val="6943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48875"/>
        <c:crosses val="autoZero"/>
        <c:auto val="1"/>
        <c:lblAlgn val="ctr"/>
        <c:lblOffset val="100"/>
        <c:noMultiLvlLbl val="0"/>
      </c:catAx>
      <c:valAx>
        <c:axId val="41448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3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DD0-07D2-4A07-9D46-10C1E1B1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CC0-0A05-494F-A85C-CA8A2FAD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5D5-4207-4EEB-9888-97C6BA6E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DE1-7EE8-4D97-ABD8-FA2262BB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4DA-7E5A-41A3-A41A-70396E6A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A81-709F-4268-8282-B574379F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A4B-1DD0-400E-8265-0048B781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305-E738-40BB-8879-68CB696A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848-1BE5-4833-82FB-970AA1E7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84C-BD32-409B-B807-5E9733A2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FE7-6B52-41F0-8E2A-3E198EE8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56A-218E-4310-B275-AB39DC79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890A6-07C3-468E-B135-EF922D4ED8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