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171675"/>
        <c:axId val="22320682"/>
      </c:barChart>
      <c:catAx>
        <c:axId val="551716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20682"/>
        <c:crosses val="autoZero"/>
        <c:auto val="1"/>
        <c:lblAlgn val="ctr"/>
        <c:lblOffset val="100"/>
        <c:noMultiLvlLbl val="0"/>
      </c:catAx>
      <c:valAx>
        <c:axId val="223206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716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9BEF-A7FA-4473-AD6E-3BF97A79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6F0-1916-49FA-9232-3F5E0963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66E-E085-49C5-956A-CDD34676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5D9E-ACAC-4D57-A490-5A79D1FC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478-D6A8-4A2B-BABE-9470A704B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2702-985A-4176-A307-B54AC4D4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27A-5D8A-468C-BDD2-C0D91E80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553-BFDF-4EB4-8B51-621756FA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56F0-A57E-4051-8371-39A9FE1C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47AF-3CC3-4356-8A5E-1133A2BF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85CE-F963-40EF-BEB3-9D1D5989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E2F1-A5E2-412C-92AE-812C3557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344C3D-C66E-4B1B-869F-2913D590756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