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67202"/>
        <c:axId val="61257661"/>
      </c:barChart>
      <c:catAx>
        <c:axId val="89967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7661"/>
        <c:crosses val="autoZero"/>
        <c:auto val="1"/>
        <c:lblAlgn val="ctr"/>
        <c:lblOffset val="100"/>
        <c:noMultiLvlLbl val="0"/>
      </c:catAx>
      <c:valAx>
        <c:axId val="61257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7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72E-AAF3-4FC4-8537-B982C7C5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A26-7921-47A0-83CB-E37E455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B02-5FD2-4D52-B6F2-8189A203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26C-D8B8-4113-BB20-EC15E7D7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6D4-B851-42DD-8053-64292539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E78-5AD7-4038-B73B-C631D66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2E2-FCFD-47AC-B5FF-EB30E3D7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F94-0301-4676-B42C-A3965577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69B-D0D4-4278-BA39-B4299E10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9E4-27A3-46B6-A956-D2FFC22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3B3-B387-4549-BDC3-9E8D39E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C51-74EF-416B-920E-A093B62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21348-ADE3-475A-A3E5-EFE66F45F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