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90495"/>
        <c:axId val="10939860"/>
      </c:barChart>
      <c:catAx>
        <c:axId val="89590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39860"/>
        <c:crosses val="autoZero"/>
        <c:auto val="1"/>
        <c:lblAlgn val="ctr"/>
        <c:lblOffset val="100"/>
        <c:noMultiLvlLbl val="0"/>
      </c:catAx>
      <c:valAx>
        <c:axId val="10939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90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59A-6857-426D-9FA3-1533A0BF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3D9-DE1B-4132-A28E-71321B4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2EA-F585-483D-8DC9-269A8B6B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64D-0086-4C97-9FC0-79F5DE41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2F4-EA4D-42EC-A1D3-A3E066B2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D57-A392-4F2E-8398-6040AA8A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50D-9C64-4AB5-B81A-2CC7F68B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4C6-EAB3-472C-B57E-64473337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378-28D1-4D8C-B04F-5DEACA78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29E-F2D6-4604-8081-77EBDB9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0B2-2C29-4466-B7B2-0AAA2B3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D09-2FA6-4B46-B4E3-2B241FD9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429D6-2D0B-4857-AD42-D42159D4A6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