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1026"/>
        <c:axId val="85371909"/>
      </c:barChart>
      <c:catAx>
        <c:axId val="8941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71909"/>
        <c:crosses val="autoZero"/>
        <c:auto val="1"/>
        <c:lblAlgn val="ctr"/>
        <c:lblOffset val="100"/>
        <c:noMultiLvlLbl val="0"/>
      </c:catAx>
      <c:valAx>
        <c:axId val="85371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1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252-97EA-42FF-B780-560DC581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516-AD6C-4A0C-9800-88BF5159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3E2-98AF-4724-ACC0-DA5DB5C7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2AE-E045-4A39-A193-BAA5FB83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BB7-1562-4C3C-ADE2-74E45D34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0C0-6492-4CC4-8D87-FAB1F3D5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DCD-E238-4A20-A384-ABA69D12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0DA-6EA7-499E-9B22-2AD00340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580-8A05-4FFF-888B-71E30858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932-AD39-4D12-B647-FEB12480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97E-980E-4EA8-8B7B-913276A9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E93-E817-4FC2-8BA4-67831243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3E166-D81F-4C38-B676-0C76BEDEE1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