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88800"/>
        <c:axId val="96049032"/>
      </c:barChart>
      <c:catAx>
        <c:axId val="64888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49032"/>
        <c:crosses val="autoZero"/>
        <c:auto val="1"/>
        <c:lblAlgn val="ctr"/>
        <c:lblOffset val="100"/>
        <c:noMultiLvlLbl val="0"/>
      </c:catAx>
      <c:valAx>
        <c:axId val="960490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88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C00-8B9C-4C32-98FA-CA088AA2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670-D81E-4C05-9511-6651020C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7F37-E349-424C-9D77-11445967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EC3-2FF6-43A3-8782-81E78F11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D12-7F8F-4116-AF01-2991B2CF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F36-AF14-44DC-8BAC-0D3A6771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83AA-B933-4420-8CB1-4942E8AF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D31-511B-4C1E-B2DD-5F73A49B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69B-8F2C-4BB0-812A-613056A7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71A5-C51F-470B-9FA2-D91BC369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1235-6ADA-461F-8742-1FCE7463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192-75A0-4710-96CF-8C25997F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AD655-05BD-49FE-89E2-620C0DDB41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