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4549"/>
        <c:axId val="63255261"/>
      </c:barChart>
      <c:catAx>
        <c:axId val="81845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55261"/>
        <c:crosses val="autoZero"/>
        <c:auto val="1"/>
        <c:lblAlgn val="ctr"/>
        <c:lblOffset val="100"/>
        <c:noMultiLvlLbl val="0"/>
      </c:catAx>
      <c:valAx>
        <c:axId val="63255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45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7551-6B5D-4A72-9F71-159B7D44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ADF-8DE8-40C5-A085-5C1C5AE1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0B5-DDF8-4443-A9B2-D80F8821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FF27-A91F-46CE-A3E8-A5C43146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B29-5EAD-455A-AE85-599A2029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1356-B43D-4261-ABE0-FF03870D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78A9-FA4B-46E9-856A-66314060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AF7D-6BD6-4ADA-AFC2-B4406F8E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CA8-D062-4542-987A-A9A7FEC8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695F-CA37-4AC5-9FD6-4F5BFE90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EFC5-7613-4871-AEA3-BD0DDBA7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75C5-2C2E-4FF1-82B8-BE11F9C0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A9D39-92BE-4F44-86F0-99B629F9AD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