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02299"/>
        <c:axId val="19269620"/>
      </c:barChart>
      <c:catAx>
        <c:axId val="95702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69620"/>
        <c:crosses val="autoZero"/>
        <c:auto val="1"/>
        <c:lblAlgn val="ctr"/>
        <c:lblOffset val="100"/>
        <c:noMultiLvlLbl val="0"/>
      </c:catAx>
      <c:valAx>
        <c:axId val="19269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02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274-1EDB-4BFD-BB67-3FB5E938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061-9470-4DE0-A6F4-675C5484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9BD-15AE-407F-B26D-62CB78FC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187-5487-4231-BC67-6D6D028A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AC4-88A0-4A9F-A793-3143522B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36E-5F24-43D9-8E8B-F0E46ED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7BE-3774-4AA7-A032-F7DAB01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62A-4071-4A83-AFD8-84232DC2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305-D783-489A-B3C9-A92CBD1B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F5E-B5FF-4E0E-B269-D842214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79B-591D-41EC-A9E2-06761F6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4C9-1C75-4EE8-A8E1-3A06448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CF77-EC4C-47B3-9BF9-BC64AFCB2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