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40285"/>
        <c:axId val="7873145"/>
      </c:barChart>
      <c:catAx>
        <c:axId val="19140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3145"/>
        <c:crosses val="autoZero"/>
        <c:auto val="1"/>
        <c:lblAlgn val="ctr"/>
        <c:lblOffset val="100"/>
        <c:noMultiLvlLbl val="0"/>
      </c:catAx>
      <c:valAx>
        <c:axId val="7873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40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9AF-27FD-40BA-8368-E6D4D005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827-7CAF-4EF6-B7FA-8690C1F3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1694-D2BF-4992-9C31-6C90D326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0D3-F80E-47C5-A78B-8EBF3590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2ED-1414-4E04-BF23-E2305D6B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749-605E-4411-9250-7813FB34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511-AD55-4954-A8D6-FC929832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61C-CCC4-4B01-9410-CE021BBA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127-1E45-42CF-8A88-A807547D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BA5-DFD5-4F2E-96AC-F623D444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DB9-6794-4F09-B13C-C4F0316F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CEB-13EE-4C15-98AA-D80E3C14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C5079-6D54-48F3-9784-F8A303EC6D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