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77037"/>
        <c:axId val="36157118"/>
      </c:barChart>
      <c:catAx>
        <c:axId val="82977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57118"/>
        <c:crosses val="autoZero"/>
        <c:auto val="1"/>
        <c:lblAlgn val="ctr"/>
        <c:lblOffset val="100"/>
        <c:noMultiLvlLbl val="0"/>
      </c:catAx>
      <c:valAx>
        <c:axId val="36157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77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18A-642C-42D7-A09C-DD85B119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D6A-4B9F-49E5-AEE1-27D50E8B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107-07F1-4AF3-8F17-38104AB9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345-BA73-49BE-ACC2-DE6EE61C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CD5-75E0-4D82-8AC3-CD78CDEA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D8E-B520-444A-8316-CAF0465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223-B316-47E4-9F5F-C0BF9AAB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6E4-84FB-43B2-8EEF-6A2195ED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AD2-B15B-4FA1-AF90-0716D6DA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824-3A26-4A87-8A71-EF58A2E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49C-5772-4A73-B636-331DDC77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BD3-B9DD-4230-AA9C-7EC2C59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6F5FF-19E4-434D-94BE-F643EA74D2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