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6600"/>
        <c:axId val="49610371"/>
      </c:barChart>
      <c:catAx>
        <c:axId val="5376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10371"/>
        <c:crosses val="autoZero"/>
        <c:auto val="1"/>
        <c:lblAlgn val="ctr"/>
        <c:lblOffset val="100"/>
        <c:noMultiLvlLbl val="0"/>
      </c:catAx>
      <c:valAx>
        <c:axId val="49610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6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F32-EA39-45D6-8047-DE1FA04D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248-3372-4716-A381-3B9AA9BD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D8E-D3AC-45BA-8E0E-FD6A0864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0C1-5EE6-47DA-B1DB-68F6F6B4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119-8B44-458A-B17C-E3F76C92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F6E-F4FE-498A-A041-7C986601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66F-482B-4234-BCE5-C388EA35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D1A-FA4D-4F12-B2FD-BFA02D20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2E3-E193-4401-901C-00BD257F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7E5-92C4-44D2-8F68-0195F86A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F72-C9E1-4DBB-9011-35145BC1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67B-0950-4C91-B2A4-DE28D713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A3DCD-A261-4109-A8D4-21F76629F1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